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DEB-FF39-43DD-A228-F9BF9F1C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FA3-ED9E-4387-A248-BCE7EEBA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A9B-9C4E-43FD-AA6E-1519F57B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D8D-E7DF-4B47-8A0A-952CDA1E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936-BB3D-49B3-B62B-BCE02D39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5F84-DEFB-40A1-90A6-65E0A48D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F70D-5F9A-44C7-B32B-C15A1E7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E1F9-E85A-4C18-9DDA-9CF7CF2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26FE-E99F-4354-9C03-1B4C310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D0BE-15E0-4B02-B04E-CA481ACE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3D7E-0765-4662-847E-B3C2198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54F-A973-45DD-9B44-93D72FB6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D219-1ABA-4FA4-8D64-EB354D5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20C-4B02-49D7-B794-4AF7923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07D6-7ADA-443D-90B4-9BEEDE7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480-6C85-4981-996C-48889F70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EFCF-1175-4142-9F10-B348A20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DAF-1567-4481-BAB0-53B51284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A6F-F000-429B-8D9D-F6F950F0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2B8-E8B2-4175-B01E-2D1AF91F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AB8-92A6-43E7-B970-CC4AB4F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450-AF24-47B8-BA5C-3F42416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CEB-246B-42AA-B6C1-8299E4B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5CB-8C33-494A-BB8B-BC7EAB99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043F-5934-4F5F-9751-EBFBA2EB50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C457-4C1D-4871-A587-84F1E8DE2F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fun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 f (x) = 3x- 5, f:x--&gt; 3x- 5 to describe simple func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fo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e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defined by gf(x) = g(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use the notation 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to describe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I can subsequently f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means “some function applied to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f(x) = 3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2)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4)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-1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dif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= 3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2)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= 5, 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653000"/>
            <a:ext cx="3456000" cy="1512720"/>
          </a:xfrm>
          <a:prstGeom prst="wedgeRectCallout">
            <a:avLst>
              <a:gd name="adj1" fmla="val -43064"/>
              <a:gd name="adj2" fmla="val -80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working backwards. “When you do ‘f’ to x, the answer is 5. What is x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lso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(x) = 3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4)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x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g(x) = 4(x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(1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(x) = 1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0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)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quivalent statements can we make for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9273" t="7790" r="0" b="32781"/>
          <a:stretch/>
        </p:blipFill>
        <p:spPr>
          <a:xfrm rot="21408600">
            <a:off x="1692000" y="0"/>
            <a:ext cx="7711920" cy="695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2362320"/>
            <a:ext cx="533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979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notation can also be used in graph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(x) =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x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g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s f(g(x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s g(f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g(x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x –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(x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g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x –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9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– 6x + 1 + 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3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+ 6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9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– 6x + 3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3x</a:t>
            </a:r>
            <a:r>
              <a:rPr b="0" lang="en-GB" sz="2400" spc="-1" strike="noStrike" baseline="30000">
                <a:solidFill>
                  <a:srgbClr val="9933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g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h(x)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f(x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1989000"/>
                <a:ext cx="1657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2360" y="1700280"/>
                <a:ext cx="11541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867280" y="1844640"/>
                <a:ext cx="1608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2560" y="4138560"/>
            <a:ext cx="337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rse – working the other way. e.g. f(x) = 3x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1: Flow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es f(x) tell us to do to 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2: Change th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input, let y =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rse means we switch the input and output... then 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 = 3x – 2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x = 3y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3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2560" y="41418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75040" y="41385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46320" y="39225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49600" y="39225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1400" y="453852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3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x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2560" y="5337000"/>
            <a:ext cx="337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75040" y="5337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46320" y="51213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9600" y="5121360"/>
            <a:ext cx="8287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1400" y="5737320"/>
            <a:ext cx="38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+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x +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82560" y="6130800"/>
            <a:ext cx="56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51944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2: Change th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input, let y =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rse means we switch the input and output... then 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 = 3x – 2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x = 3y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3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+ 2 =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51944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0:13:35Z</dcterms:created>
  <dc:creator>N Holden</dc:creator>
  <dc:description/>
  <dc:language>en-US</dc:language>
  <cp:lastModifiedBy>N Holden</cp:lastModifiedBy>
  <dcterms:modified xsi:type="dcterms:W3CDTF">2009-03-10T10:35:42Z</dcterms:modified>
  <cp:revision>4</cp:revision>
  <dc:subject/>
  <dc:title>IGCSE Revision Lesson 7</dc:title>
</cp:coreProperties>
</file>